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94E-81BA-4A78-A02A-BD5A2094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CD0-383D-4D76-AC5D-50C3CAD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95F-271A-48A7-B0F5-816585A7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188-0DE6-4B96-84B0-72F2124C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464-C396-46C2-A1A0-81EC3FA7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89A-9100-481A-8D4C-C8F873B6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D91-F384-4955-B920-8946CD81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B95-A787-4881-A6C6-D40A09A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889-E50F-4996-8454-8DEE161E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B91-69F1-4C58-B73F-23F30519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AAD-F1AA-4CE4-9408-8696EFA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C52-B71D-4B43-BF6F-719102E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2918-DAA0-465E-9C26-053435B82DF9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92E2-303E-4570-A4C5-2E8639903F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8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997360"/>
            <a:ext cx="828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бор, анализ и обработка эксплуатационных данных о надежности изделий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05F-0A0B-4931-A4B6-10CA6CD036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Каждый отказ машины в процессе наблюдений должен характеризоваться такими данными, как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работка элемента до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та появления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именование или номер отказавшего эле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 и внешнее проявление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полагаемая причина его возникнов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особ и время устранения отка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48C-6876-4FE4-9CFF-7EDFF45C66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 общем случае для сбора и обработки информации о надежности предусмотрены следующие виды форм учетной документации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ичные формы учета эксплуатационной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ы-накопители эксплуатационной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ы записи результатов анализа над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757-4295-444B-A6C8-07A5F29923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 зависимости от организации использования машин и ухода за их техническим состоянием различают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контрольн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рмальн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ядов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2B9-F424-419D-A3BB-66A44E4F0B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Нормальн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­сплуатацию, при которой соблюдают правила использования машин и ухода за ними, оговоренные в технической докум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Рядов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сплуатацию, проводимую с отклонениями от требований технической документации, вызванными, например, необходимостью проведения работ в сжатые сроки или в особо сложных услов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607-4E56-41CE-80D7-5673DA81F6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Основными методами сбора информации о надежности машин в эксплуатации являются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струментальный мето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 хронометраж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 периодических наблю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, основанный на анализе данных эксплуатационной и ремонтной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78C-4BE8-4313-BB48-78202F8C28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Инструментальный мет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зволяет получить объективную информацию в наиболее полном объ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ю этим методом собирают, как правило, в условиях подконтрольной эксплуатации при испытаниях машин. В качестве технических средств сбора информации используют контрольно-измерительную аппаратуру и самопишущие приборы, устанавливаемые на исследуемой машин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733-58B3-41B7-B308-4E7A6ABA05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Метод хронометраж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спользуют для определения чистого времени работы элементов маш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ть метода заключается в том, что специалист-хронометрист с помощью секундомера фиксирует моменты начала и окончания работы машины или отдельных ее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этого можно также использовать приборы, автоматически регистрирующие наработку исследуемых элементов маш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E92-622B-4105-B064-03F6D34F1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040" y="83628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Метод периодических наблюден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меняют в тех случаях, когда установить постоянное наблюдение за машиной (или группой машин) невозможно из-за удаленности объ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бирают информацию в этом случае на основании опроса водителей и результатов технической экспертизы, проводимой на автомобил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366-DD40-4BCB-827A-3D85909BE7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Метод сбора информации, основанный на анализе данных эксплуатационной и ремонтной документ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применяют весьма широк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условии добросовестного заполнения технической документации и содержания ее в образцовом порядке с помощью этого метода можно получить исходные данные для определения всех основных нормируемых показателей наде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2EF-9948-4327-BCFF-9AD2DCA9EE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3. Построение эмпирического распределения и статистическая оценка его параметров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624720" cy="374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332000" y="5084640"/>
          <a:ext cx="7308720" cy="1032120"/>
        </p:xfrm>
        <a:graphic>
          <a:graphicData uri="http://schemas.openxmlformats.org/drawingml/2006/table">
            <a:tbl>
              <a:tblPr/>
              <a:tblGrid>
                <a:gridCol w="7308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тистическая функция плотности эмпирического распредел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— гистограмма распределения случайной величины;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— кривая распределения случайной вел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800" y="28425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5BB-7B81-4D39-A0D9-F81BC17B84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и и задачи сбора информации и оценки надежности маш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нципы сбора и систематизации эксплуатационной информации о надежности издел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роение эмпирического распределения и статистическая оценка его параметр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A1C-819F-4D2D-B3C6-921F4B27E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й числовой характеристике случайной величины соответствует ее статистический аналог. Статистические аналоги будем обозначать теми же буквами, что и соответствующие числовые характеристики, но со звездоч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математического ожидания таким аналогом является среднее арифметическое наблюдаемых значений случайн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48000" y="2421000"/>
          <a:ext cx="180036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421000"/>
                    <a:ext cx="18003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840680" y="3338280"/>
            <a:ext cx="476856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е значение случайной величины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бщее числ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348000" y="4581360"/>
          <a:ext cx="187164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581360"/>
                    <a:ext cx="18716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920" y="4149000"/>
            <a:ext cx="8483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атистического ряда среднее арифметическое находится из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5496480"/>
            <a:ext cx="2610000" cy="3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Р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астота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Р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=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03280" y="5734080"/>
          <a:ext cx="3128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734080"/>
                    <a:ext cx="3128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557000" y="5856840"/>
            <a:ext cx="6549480" cy="3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е, соответствующее середин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интервала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исло от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822-8D13-46E6-B8B0-976317A8F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333000"/>
            <a:ext cx="84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характеристики рассе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аналогом является статистическая дисперсия случайной велич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640" y="20599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статическое среднее квадратичное от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64000" y="836640"/>
          <a:ext cx="25192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836640"/>
                    <a:ext cx="25192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27280" y="2421000"/>
          <a:ext cx="360036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2421000"/>
                    <a:ext cx="36003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72120" y="3715560"/>
            <a:ext cx="293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атистического 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76720" y="4076640"/>
          <a:ext cx="295272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076640"/>
                    <a:ext cx="2952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57600" y="4796640"/>
            <a:ext cx="738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ческий коэффициент вариации определяется по фор­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95640" y="5157720"/>
          <a:ext cx="1513080" cy="92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5157720"/>
                    <a:ext cx="15130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EF4-3DD9-473F-AF7B-35F87A00B3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дальнейшей обработке необходимо решить вопрос о том, как подобрать для данных статистического ряда теоретическую кривую распределения, выражающую лишь существенные черты материала, а не случайности, связанные с недостаточным объемом экспериментальных дан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ид теоретического распределения, как правило, зависит от процессов, влияющих на изменение случайной величины. В некоторых случаях он выбирается просто по внешнему виду гистограммы. Найденные параметры эмпирического распределения подставляют в функцию теоретического распределения и рассчитывают вероятности появления случайной величины в интервалах (теоретические расчеты). Проверка согласованности экспериментальной и выравнивающей кривых часто производится по критерию Пирсона (критерию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        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03640" y="4437000"/>
          <a:ext cx="5032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437000"/>
                    <a:ext cx="503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C42-373F-45B5-A4F8-7CA927B60B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 дает возможность оценить степень согласия теоретического и статистического распред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значениям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редством таблицы нормального распределения устанавливают теоретические частоты. Критерий согласия  находится с помощью зависи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27280" y="3860640"/>
          <a:ext cx="381780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860640"/>
                    <a:ext cx="38178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5171760"/>
            <a:ext cx="5473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число интервалов наработки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— теоретическая частота случайной величины в интерв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6FA-A1F0-47CB-8161-A5C609EE02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 определения критерия  записывается в таблицу. Таким образом, схема применения критерия  при оценке согласия теоретического и статистического распределения сводится к определению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ры расхождения (по формул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ла степеней свободы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 = r(S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— число параметров теоретического распред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бличного значения вероятности согласи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80B-3627-4FC4-B0F7-6D52380857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ашин и оборудования оценивают для определения их соответствия установленным требованиям путем сопоставления показателей долговечности, безотказности, ремонтопригодности и сохраняемости исследуемого изделия с аналогичными показателями эталонного издел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1. Цели и задачи сбора информации и оценки надежности машин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02D-B94E-4878-B399-9F08B43E82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34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ой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бора информации является своевременное обеспечение полных, объективных и достоверных данных о надежности машин и их элементов в эксплуат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бходимым условием достижения поставленной цели является организация четкой системы сбора и обработки информации о наде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898-CAC4-4B1A-B59B-ED1F0CC1E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Система сбора и обработки информации о надежности должна обеспечить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евременное получение полных, сопоставимых и объективных данных о надежности машин, работающих в различных условиях эксплуат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тивную обработку статистических данных и представление результатов в форме, наиболее удобной для анализа надежности маши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т и координацию мероприятий по повышению надежности, проводимых разработчиками, заводами-изготовителями и эксплуатационными организаци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376-D172-45D8-9495-146581C4C0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ной чертой эксплуатации машин является их использование в различных климатических зонах, дорожных условиях и при производстве работ различных видов. Срок службы основных элементов машин достаточно велик и составляет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—10 л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9E8-7FB4-4EEB-B859-F361F826AD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Результаты сбора и обработки информации о надежности машин и оборудования должны обеспечить возможность решения следующих задач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хождение причин возникновения отказов и неисправност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явление деталей, сборочных единиц и комплектующих изделий, лимитирующих надежность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становление и корректировку нормируемых показателей на­дежности машин и их элемен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основание норм расхода запасных частей, структуры ремонтного цикла и периодичности проведения технического обслуживания и ремонтов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явление влияния условий и режимов эксплуатации на надежность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ределение экономической эффективности мероприятий по повышению надежности машин и их элеме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AFE-F679-49FC-8D2F-B4123CEE1F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ым источником информации о надежности автомобилей является специально организуемая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996600"/>
                </a:solidFill>
                <a:latin typeface="Arial"/>
              </a:rPr>
              <a:t>подконтрольная эксплуатац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ли испытания в максимально приближенных к эксплуатационным условиях, оговоренных в нормативно-технической докумен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Подконтрольн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сплуатацию заданного числа машин в строгом соответствии с требованиями технической документации, сопровождаемую контролем технического состояния основных элементов каждой машины специально подготовленным персонал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C34-AA91-4721-9A0F-CB2DBCCA35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2. Принципы сбора и систематизации эксплуатационной информации о надежности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издели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всесторонней оценки надежности машин необходимо в результате сбора информации получить полные сведения об объекте исследования, условиях его эксплуатации, характере отказов и способах их устра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ные сведения о машине приведены в техническом паспорт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мар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завод-изготов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заводской номе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время изготов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Категор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наработка до начала наблюд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3C2-5E93-4315-95ED-FC990A4A49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3-04T05:40:51Z</dcterms:modified>
  <cp:revision>28</cp:revision>
  <dc:subject/>
  <dc:title>Лекция  № 11 </dc:title>
</cp:coreProperties>
</file>